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288588" cy="7239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614C-5EF5-4822-818B-6861B8CA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67E-8327-4154-B344-D406D3BF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3F5-4951-46DE-A687-B0448E5F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556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556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1D1-F9BC-4A8A-9495-C4B6C397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FFF-62C4-4B6A-9F80-05CA7BA3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08D-20F0-47DF-98D2-4AB3E36D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00B-5BBE-4B10-9DC2-F34DE136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F4F-1004-481C-9241-FF261E1A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288720"/>
            <a:ext cx="9259560" cy="56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7432-E2A4-47CC-A718-016DA37E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CA2-E102-4D5A-A66E-967FF777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E723-D6DB-4EB4-98FE-EF974F6C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7066-DF29-44D1-8F6D-09105907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14320" y="6595560"/>
            <a:ext cx="325764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7208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CB1D7A87-A6D1-432A-8110-9866B011F8DF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7442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9164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S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14300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66480" y="3048120"/>
            <a:ext cx="239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ust 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10800" y="2008080"/>
            <a:ext cx="67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SiS VGA Product Road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28600" y="0"/>
            <a:ext cx="10515600" cy="7238880"/>
          </a:xfrm>
          <a:prstGeom prst="rect">
            <a:avLst/>
          </a:prstGeom>
          <a:gradFill rotWithShape="0">
            <a:gsLst>
              <a:gs pos="0">
                <a:srgbClr val="b1fee4"/>
              </a:gs>
              <a:gs pos="50000">
                <a:srgbClr val="66ffcc"/>
              </a:gs>
              <a:gs pos="100000">
                <a:srgbClr val="b1fe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SiS315 Present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TW" sz="2400" spc="-1" strike="noStrike">
                <a:solidFill>
                  <a:srgbClr val="a50021"/>
                </a:solidFill>
                <a:latin typeface="Arial"/>
              </a:rPr>
              <a:t>Lightning Speed, Beyond Fantasy</a:t>
            </a: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3880" y="6858000"/>
            <a:ext cx="2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47200" y="357120"/>
            <a:ext cx="157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5440" y="1828800"/>
            <a:ext cx="4697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SiS315 Positioning /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GPU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eature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Performance Compar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55920" y="36504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Positio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26920" y="1523880"/>
            <a:ext cx="800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Mainstream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iS315 =&gt; 128 bit SDR/ 64-bit SD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Focus on 32M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Best Cost /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upport Cost-Effective Memory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95840" y="289080"/>
            <a:ext cx="439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Market Strate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65360" y="1752480"/>
            <a:ext cx="618840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The Best Choise for Sub-U$90 3D VG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 Perfect Choise with 3DV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Best 3D Performance you Can G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Richest Multimedia Function You Can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Flexible Display Option You Can Select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	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355680"/>
            <a:ext cx="7000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990000"/>
                </a:solidFill>
                <a:latin typeface="Arial"/>
              </a:rPr>
              <a:t>SiS315  Block Dia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71720" y="2090880"/>
            <a:ext cx="1628640" cy="4424400"/>
            <a:chOff x="171720" y="2090880"/>
            <a:chExt cx="1628640" cy="4424400"/>
          </a:xfrm>
        </p:grpSpPr>
        <p:sp>
          <p:nvSpPr>
            <p:cNvPr id="54" name=""/>
            <p:cNvSpPr/>
            <p:nvPr/>
          </p:nvSpPr>
          <p:spPr>
            <a:xfrm>
              <a:off x="685800" y="4262400"/>
              <a:ext cx="1114560" cy="241200"/>
            </a:xfrm>
            <a:prstGeom prst="leftRightArrow">
              <a:avLst>
                <a:gd name="adj1" fmla="val 50000"/>
                <a:gd name="adj2" fmla="val 919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1720" y="2090880"/>
              <a:ext cx="1591920" cy="4424400"/>
              <a:chOff x="171720" y="2090880"/>
              <a:chExt cx="1591920" cy="4424400"/>
            </a:xfrm>
          </p:grpSpPr>
          <p:sp>
            <p:nvSpPr>
              <p:cNvPr id="56" name=""/>
              <p:cNvSpPr/>
              <p:nvPr/>
            </p:nvSpPr>
            <p:spPr>
              <a:xfrm>
                <a:off x="514440" y="2413080"/>
                <a:ext cx="147600" cy="4102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3f3f3"/>
                  </a:gs>
                  <a:gs pos="100000">
                    <a:srgbClr val="b2b2b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720" y="2090880"/>
                <a:ext cx="10054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GP2X/4X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8600" y="3860640"/>
                <a:ext cx="905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ddress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5943600" y="1436760"/>
            <a:ext cx="3571920" cy="1387440"/>
            <a:chOff x="5943600" y="1436760"/>
            <a:chExt cx="3571920" cy="1387440"/>
          </a:xfrm>
        </p:grpSpPr>
        <p:grpSp>
          <p:nvGrpSpPr>
            <p:cNvPr id="60" name=""/>
            <p:cNvGrpSpPr/>
            <p:nvPr/>
          </p:nvGrpSpPr>
          <p:grpSpPr>
            <a:xfrm>
              <a:off x="8227080" y="1436760"/>
              <a:ext cx="1288440" cy="1386000"/>
              <a:chOff x="8227080" y="1436760"/>
              <a:chExt cx="1288440" cy="1386000"/>
            </a:xfrm>
          </p:grpSpPr>
          <p:pic>
            <p:nvPicPr>
              <p:cNvPr id="61" name="Monitor_front" descr=""/>
              <p:cNvPicPr/>
              <p:nvPr/>
            </p:nvPicPr>
            <p:blipFill>
              <a:blip r:embed="rId1"/>
              <a:stretch/>
            </p:blipFill>
            <p:spPr>
              <a:xfrm>
                <a:off x="8315280" y="1436760"/>
                <a:ext cx="1200240" cy="10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8227080" y="2494080"/>
                <a:ext cx="128304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zh-TW" sz="1500" spc="-1" strike="noStrike">
                    <a:solidFill>
                      <a:srgbClr val="000000"/>
                    </a:solidFill>
                    <a:latin typeface="Arial"/>
                  </a:rPr>
                  <a:t>1’st Monito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943600" y="2010960"/>
              <a:ext cx="2441520" cy="813240"/>
              <a:chOff x="5943600" y="2010960"/>
              <a:chExt cx="2441520" cy="813240"/>
            </a:xfrm>
          </p:grpSpPr>
          <p:sp>
            <p:nvSpPr>
              <p:cNvPr id="64" name=""/>
              <p:cNvSpPr/>
              <p:nvPr/>
            </p:nvSpPr>
            <p:spPr>
              <a:xfrm>
                <a:off x="5943600" y="2819520"/>
                <a:ext cx="178128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715160" y="2010960"/>
                <a:ext cx="1800" cy="80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715160" y="2011320"/>
                <a:ext cx="66996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6174720" y="3581280"/>
            <a:ext cx="1261440" cy="1044360"/>
            <a:chOff x="6174720" y="3581280"/>
            <a:chExt cx="1261440" cy="1044360"/>
          </a:xfrm>
        </p:grpSpPr>
        <p:sp>
          <p:nvSpPr>
            <p:cNvPr id="68" name=""/>
            <p:cNvSpPr/>
            <p:nvPr/>
          </p:nvSpPr>
          <p:spPr>
            <a:xfrm>
              <a:off x="6174720" y="4327200"/>
              <a:ext cx="1261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0 Pin TQF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43560" y="3581280"/>
              <a:ext cx="743040" cy="723960"/>
            </a:xfrm>
            <a:prstGeom prst="rect">
              <a:avLst/>
            </a:prstGeom>
            <a:gradFill rotWithShape="0">
              <a:gsLst>
                <a:gs pos="0">
                  <a:srgbClr val="fed5ac"/>
                </a:gs>
                <a:gs pos="50000">
                  <a:srgbClr val="ff9933"/>
                </a:gs>
                <a:gs pos="100000">
                  <a:srgbClr val="fed5a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S3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238880" y="2971800"/>
            <a:ext cx="2419560" cy="3900600"/>
            <a:chOff x="7238880" y="2971800"/>
            <a:chExt cx="2419560" cy="3900600"/>
          </a:xfrm>
        </p:grpSpPr>
        <p:sp>
          <p:nvSpPr>
            <p:cNvPr id="71" name=""/>
            <p:cNvSpPr/>
            <p:nvPr/>
          </p:nvSpPr>
          <p:spPr>
            <a:xfrm>
              <a:off x="7800840" y="3733920"/>
              <a:ext cx="1800" cy="25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14920" y="5337000"/>
              <a:ext cx="13424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CD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lcd" descr=""/>
            <p:cNvPicPr/>
            <p:nvPr/>
          </p:nvPicPr>
          <p:blipFill>
            <a:blip r:embed="rId2">
              <a:lum contrast="-24000"/>
            </a:blip>
            <a:stretch/>
          </p:blipFill>
          <p:spPr>
            <a:xfrm>
              <a:off x="8372520" y="4343400"/>
              <a:ext cx="128592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flipV="1">
              <a:off x="7772400" y="4862520"/>
              <a:ext cx="762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800840" y="5710320"/>
              <a:ext cx="1629000" cy="1162080"/>
              <a:chOff x="7800840" y="5710320"/>
              <a:chExt cx="1629000" cy="1162080"/>
            </a:xfrm>
          </p:grpSpPr>
          <p:pic>
            <p:nvPicPr>
              <p:cNvPr id="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486640" y="5710320"/>
                <a:ext cx="94320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744040" y="6543720"/>
                <a:ext cx="44316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T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800840" y="6246360"/>
                <a:ext cx="5954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9" name="Monitor_front" descr=""/>
            <p:cNvPicPr/>
            <p:nvPr/>
          </p:nvPicPr>
          <p:blipFill>
            <a:blip r:embed="rId4"/>
            <a:stretch/>
          </p:blipFill>
          <p:spPr>
            <a:xfrm>
              <a:off x="8238960" y="2971800"/>
              <a:ext cx="128592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238880" y="373860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51120" y="4049640"/>
              <a:ext cx="1397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zh-TW" sz="1500" spc="-1" strike="noStrike">
                  <a:solidFill>
                    <a:srgbClr val="000000"/>
                  </a:solidFill>
                  <a:latin typeface="Arial"/>
                </a:rPr>
                <a:t>2’nd 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52480" y="1295280"/>
            <a:ext cx="4647960" cy="5564880"/>
            <a:chOff x="1752480" y="1295280"/>
            <a:chExt cx="4647960" cy="5564880"/>
          </a:xfrm>
        </p:grpSpPr>
        <p:sp>
          <p:nvSpPr>
            <p:cNvPr id="83" name=""/>
            <p:cNvSpPr/>
            <p:nvPr/>
          </p:nvSpPr>
          <p:spPr>
            <a:xfrm>
              <a:off x="5762520" y="3855960"/>
              <a:ext cx="519120" cy="161640"/>
            </a:xfrm>
            <a:prstGeom prst="rightArrow">
              <a:avLst>
                <a:gd name="adj1" fmla="val 50000"/>
                <a:gd name="adj2" fmla="val 802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52480" y="2361960"/>
              <a:ext cx="4029120" cy="4102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657240" y="1981080"/>
              <a:ext cx="160560" cy="7920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38480" y="1828440"/>
              <a:ext cx="2361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SD/SGRAM Interfa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DDR Interface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4440" y="1295280"/>
              <a:ext cx="83844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67080" y="1447560"/>
              <a:ext cx="83808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33560" y="2361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733560" y="1599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560" y="1599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040" y="25905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ransform &amp; Ligh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7040" y="3276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Gen. 256 Bit 3D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040" y="5562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3D VR ins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7040" y="39621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sibility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7040" y="480024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er FS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8520" y="640044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</a:rPr>
                <a:t>529 BGA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99864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60200"/>
            <a:ext cx="5348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4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400" y="941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6560" y="1371600"/>
            <a:ext cx="600192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256-bit Graphics Architectu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Transform And Lighting 3D Eng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DirectX 7.x/OpenGL IC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SDRAM/SGRAM /DDR DRAM Interf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166MHz Memory Cloc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Integrated 3D VR Eyeglass Circu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otion compens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aximum 128 MB Local Frame Buff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375 MHz RAMDA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0.15um CMOS Technology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529 balls BGA packag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Utilized With SiS301 To Support Dual Display 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2nd V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TV (NTSC / P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LCD Monitor (TMDS),Up To </a:t>
            </a:r>
            <a:r>
              <a:rPr b="1" lang="zh-TW" sz="1500" spc="-1" strike="noStrike">
                <a:solidFill>
                  <a:srgbClr val="000066"/>
                </a:solidFill>
                <a:latin typeface="Arial"/>
                <a:ea typeface="新細明體"/>
              </a:rPr>
              <a:t>1280x10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0680" y="360360"/>
            <a:ext cx="23616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Key Fea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1600200"/>
            <a:ext cx="661032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condary CRT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dependent Resolution,Color Depth &amp; Frame R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econdary DDC interfa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135 MHz 2’nd RAMDAC Up To  1280x1024@85H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CD Monitor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tegrated TMDS Transmit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DVI Compliant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upport 18” LCD  Up To 1280 * 1024 Re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Hot Plugging Function Defined By VESA P&amp;D 1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TSC/PAL TV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Programmable 6 Line Buffers Anti Flickering Fil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Macro Vision Ver. 7.1.L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8160" y="357120"/>
            <a:ext cx="418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SiS301 for SiS3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525560" y="6543720"/>
            <a:ext cx="53341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149800" y="5791320"/>
            <a:ext cx="22464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Hz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1860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MARK 2001 V1.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81480" y="1828800"/>
          <a:ext cx="487692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828800"/>
                    <a:ext cx="487692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352680" y="38088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Performance Lea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0816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 MARK2000 pro V1.1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828800"/>
          <a:ext cx="5029200" cy="397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28800"/>
                    <a:ext cx="50292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940280" y="5791320"/>
            <a:ext cx="2613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GA-60XM7E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80880"/>
            <a:ext cx="877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Gaming Benchmar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0200" y="5962680"/>
            <a:ext cx="2008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1990800"/>
          <a:ext cx="518148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90800"/>
                    <a:ext cx="518148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2000" y="14479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Direct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000" y="167652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Unreal Tournament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760" y="14479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Open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257800" y="1905120"/>
          <a:ext cx="5029200" cy="41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905120"/>
                    <a:ext cx="502920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68960" y="175248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MDK2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2:24:21Z</dcterms:created>
  <dc:creator>vivian</dc:creator>
  <dc:description/>
  <dc:language>en-US</dc:language>
  <cp:lastModifiedBy>vivian</cp:lastModifiedBy>
  <cp:lastPrinted>2001-03-19T06:51:53Z</cp:lastPrinted>
  <dcterms:modified xsi:type="dcterms:W3CDTF">2001-06-15T03:59:05Z</dcterms:modified>
  <cp:revision>36</cp:revision>
  <dc:subject/>
  <dc:title>無投影片標題</dc:title>
</cp:coreProperties>
</file>