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7239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6CA8-1381-4B40-ACC1-04184913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603-7FF2-471B-9BCB-5FDBDA7C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B6E-7CB9-404C-8F8B-C4749391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524-94EE-4ECC-8524-6B14D0BF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AE1-7449-4381-99E8-73387676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34F-A92F-4C0B-B3CA-FFBC0033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4C8-829D-4A67-8628-2AE1113F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917-32CC-4E86-94FF-92B583BA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88720"/>
            <a:ext cx="9259560" cy="56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DAB-0538-4516-A98C-D0D8E051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74C-5B94-46E2-A6A0-3CAAF150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750-7D72-4FBF-9C3F-8251DA90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A00-3A51-4F2A-BC85-15B84B70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81EA40E9-892F-433A-B145-0AEA432324F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442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164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4300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66480" y="304812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10800" y="2008080"/>
            <a:ext cx="67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SiS VGA Product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8600" y="0"/>
            <a:ext cx="10515600" cy="7238880"/>
          </a:xfrm>
          <a:prstGeom prst="rect">
            <a:avLst/>
          </a:prstGeom>
          <a:gradFill rotWithShape="0">
            <a:gsLst>
              <a:gs pos="0">
                <a:srgbClr val="b1fee4"/>
              </a:gs>
              <a:gs pos="50000">
                <a:srgbClr val="66ffcc"/>
              </a:gs>
              <a:gs pos="100000">
                <a:srgbClr val="b1f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SiS315 Presen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TW" sz="2400" spc="-1" strike="noStrike">
                <a:solidFill>
                  <a:srgbClr val="a50021"/>
                </a:solidFill>
                <a:latin typeface="Arial"/>
              </a:rPr>
              <a:t>Lightning Speed, Beyond Fantasy</a:t>
            </a: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880" y="685800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47200" y="357120"/>
            <a:ext cx="157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440" y="1828800"/>
            <a:ext cx="4697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SiS315 Positioning /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GPU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eatur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Performance Compar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5920" y="36504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Posit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6920" y="1523880"/>
            <a:ext cx="800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Mainstream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iS315 =&gt; 128 bit SDR/ 64-bit SD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Focus on 32M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Best Cost /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upport Cost-Effective Memory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840" y="289080"/>
            <a:ext cx="439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Market Strate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65360" y="1752480"/>
            <a:ext cx="61884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The Best Choise for Sub-U$90 3D VG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 Perfect Choise with 3DV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Best 3D Performance you Can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Richest Multimedia Function You Can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Flexible Display Option You Can Select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	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355680"/>
            <a:ext cx="7000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990000"/>
                </a:solidFill>
                <a:latin typeface="Arial"/>
              </a:rPr>
              <a:t>SiS315  Block Dia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1720" y="2090880"/>
            <a:ext cx="1628640" cy="4424400"/>
            <a:chOff x="171720" y="2090880"/>
            <a:chExt cx="1628640" cy="4424400"/>
          </a:xfrm>
        </p:grpSpPr>
        <p:sp>
          <p:nvSpPr>
            <p:cNvPr id="54" name=""/>
            <p:cNvSpPr/>
            <p:nvPr/>
          </p:nvSpPr>
          <p:spPr>
            <a:xfrm>
              <a:off x="685800" y="4262400"/>
              <a:ext cx="1114560" cy="241200"/>
            </a:xfrm>
            <a:prstGeom prst="leftRightArrow">
              <a:avLst>
                <a:gd name="adj1" fmla="val 50000"/>
                <a:gd name="adj2" fmla="val 919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1720" y="2090880"/>
              <a:ext cx="1591920" cy="4424400"/>
              <a:chOff x="171720" y="2090880"/>
              <a:chExt cx="1591920" cy="4424400"/>
            </a:xfrm>
          </p:grpSpPr>
          <p:sp>
            <p:nvSpPr>
              <p:cNvPr id="56" name=""/>
              <p:cNvSpPr/>
              <p:nvPr/>
            </p:nvSpPr>
            <p:spPr>
              <a:xfrm>
                <a:off x="514440" y="2413080"/>
                <a:ext cx="147600" cy="4102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3f3f3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720" y="2090880"/>
                <a:ext cx="1005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GP2X/4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8600" y="3860640"/>
                <a:ext cx="905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ddres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5943600" y="1436760"/>
            <a:ext cx="3571920" cy="1387440"/>
            <a:chOff x="5943600" y="1436760"/>
            <a:chExt cx="3571920" cy="1387440"/>
          </a:xfrm>
        </p:grpSpPr>
        <p:grpSp>
          <p:nvGrpSpPr>
            <p:cNvPr id="60" name=""/>
            <p:cNvGrpSpPr/>
            <p:nvPr/>
          </p:nvGrpSpPr>
          <p:grpSpPr>
            <a:xfrm>
              <a:off x="8227080" y="1436760"/>
              <a:ext cx="1288440" cy="1386000"/>
              <a:chOff x="8227080" y="1436760"/>
              <a:chExt cx="1288440" cy="1386000"/>
            </a:xfrm>
          </p:grpSpPr>
          <p:pic>
            <p:nvPicPr>
              <p:cNvPr id="61" name="Monitor_front" descr=""/>
              <p:cNvPicPr/>
              <p:nvPr/>
            </p:nvPicPr>
            <p:blipFill>
              <a:blip r:embed="rId1"/>
              <a:stretch/>
            </p:blipFill>
            <p:spPr>
              <a:xfrm>
                <a:off x="8315280" y="1436760"/>
                <a:ext cx="120024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227080" y="2494080"/>
                <a:ext cx="12830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zh-TW" sz="1500" spc="-1" strike="noStrike">
                    <a:solidFill>
                      <a:srgbClr val="000000"/>
                    </a:solidFill>
                    <a:latin typeface="Arial"/>
                  </a:rPr>
                  <a:t>1’st Monit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943600" y="2010960"/>
              <a:ext cx="2441520" cy="813240"/>
              <a:chOff x="5943600" y="2010960"/>
              <a:chExt cx="2441520" cy="813240"/>
            </a:xfrm>
          </p:grpSpPr>
          <p:sp>
            <p:nvSpPr>
              <p:cNvPr id="64" name=""/>
              <p:cNvSpPr/>
              <p:nvPr/>
            </p:nvSpPr>
            <p:spPr>
              <a:xfrm>
                <a:off x="5943600" y="2819520"/>
                <a:ext cx="178128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715160" y="2010960"/>
                <a:ext cx="1800" cy="80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715160" y="2011320"/>
                <a:ext cx="6699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174720" y="3581280"/>
            <a:ext cx="1261440" cy="1044360"/>
            <a:chOff x="6174720" y="3581280"/>
            <a:chExt cx="1261440" cy="1044360"/>
          </a:xfrm>
        </p:grpSpPr>
        <p:sp>
          <p:nvSpPr>
            <p:cNvPr id="68" name=""/>
            <p:cNvSpPr/>
            <p:nvPr/>
          </p:nvSpPr>
          <p:spPr>
            <a:xfrm>
              <a:off x="6174720" y="4327200"/>
              <a:ext cx="1261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 Pin TQF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43560" y="3581280"/>
              <a:ext cx="743040" cy="723960"/>
            </a:xfrm>
            <a:prstGeom prst="rect">
              <a:avLst/>
            </a:prstGeom>
            <a:gradFill rotWithShape="0">
              <a:gsLst>
                <a:gs pos="0">
                  <a:srgbClr val="fed5ac"/>
                </a:gs>
                <a:gs pos="50000">
                  <a:srgbClr val="ff9933"/>
                </a:gs>
                <a:gs pos="100000">
                  <a:srgbClr val="fed5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S3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238880" y="2971800"/>
            <a:ext cx="2419560" cy="3900600"/>
            <a:chOff x="7238880" y="2971800"/>
            <a:chExt cx="2419560" cy="3900600"/>
          </a:xfrm>
        </p:grpSpPr>
        <p:sp>
          <p:nvSpPr>
            <p:cNvPr id="71" name=""/>
            <p:cNvSpPr/>
            <p:nvPr/>
          </p:nvSpPr>
          <p:spPr>
            <a:xfrm>
              <a:off x="7800840" y="3733920"/>
              <a:ext cx="180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14920" y="5337000"/>
              <a:ext cx="1342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CD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lcd" descr=""/>
            <p:cNvPicPr/>
            <p:nvPr/>
          </p:nvPicPr>
          <p:blipFill>
            <a:blip r:embed="rId2">
              <a:lum contrast="-24000"/>
            </a:blip>
            <a:stretch/>
          </p:blipFill>
          <p:spPr>
            <a:xfrm>
              <a:off x="8372520" y="4343400"/>
              <a:ext cx="128592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7772400" y="4862520"/>
              <a:ext cx="762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800840" y="5710320"/>
              <a:ext cx="1629000" cy="1162080"/>
              <a:chOff x="7800840" y="5710320"/>
              <a:chExt cx="1629000" cy="1162080"/>
            </a:xfrm>
          </p:grpSpPr>
          <p:pic>
            <p:nvPicPr>
              <p:cNvPr id="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486640" y="5710320"/>
                <a:ext cx="94320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744040" y="6543720"/>
                <a:ext cx="4431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800840" y="6246360"/>
                <a:ext cx="595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9" name="Monitor_front" descr=""/>
            <p:cNvPicPr/>
            <p:nvPr/>
          </p:nvPicPr>
          <p:blipFill>
            <a:blip r:embed="rId4"/>
            <a:stretch/>
          </p:blipFill>
          <p:spPr>
            <a:xfrm>
              <a:off x="8238960" y="2971800"/>
              <a:ext cx="12859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238880" y="373860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51120" y="4049640"/>
              <a:ext cx="139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zh-TW" sz="1500" spc="-1" strike="noStrike">
                  <a:solidFill>
                    <a:srgbClr val="000000"/>
                  </a:solidFill>
                  <a:latin typeface="Arial"/>
                </a:rPr>
                <a:t>2’nd 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52480" y="1295280"/>
            <a:ext cx="4647960" cy="5564880"/>
            <a:chOff x="1752480" y="1295280"/>
            <a:chExt cx="4647960" cy="5564880"/>
          </a:xfrm>
        </p:grpSpPr>
        <p:sp>
          <p:nvSpPr>
            <p:cNvPr id="83" name=""/>
            <p:cNvSpPr/>
            <p:nvPr/>
          </p:nvSpPr>
          <p:spPr>
            <a:xfrm>
              <a:off x="5762520" y="3855960"/>
              <a:ext cx="519120" cy="161640"/>
            </a:xfrm>
            <a:prstGeom prst="rightArrow">
              <a:avLst>
                <a:gd name="adj1" fmla="val 50000"/>
                <a:gd name="adj2" fmla="val 802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2480" y="2361960"/>
              <a:ext cx="4029120" cy="4102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657240" y="1981080"/>
              <a:ext cx="160560" cy="7920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38480" y="1828440"/>
              <a:ext cx="2361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SD/SGRAM Interfa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DDR Interface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440" y="1295280"/>
              <a:ext cx="83844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67080" y="1447560"/>
              <a:ext cx="83808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3560" y="2361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733560" y="159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560" y="1599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040" y="25905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ransform &amp; Ligh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040" y="3276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Gen. 256 Bit 3D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5562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3D VR in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040" y="39621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sibility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040" y="480024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er FS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8520" y="640044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</a:rPr>
                <a:t>529 BGA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99864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60200"/>
            <a:ext cx="53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941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6560" y="1371600"/>
            <a:ext cx="60019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256-bit Graphics Architectu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Transform And Lighting 3D Eng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DirectX 7.x/OpenGL IC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SDRAM/SGRAM /DDR DRAM 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166MHz Memory Clo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Integrated 3D VR Eyeglass Circu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otion compens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aximum 128 MB Local Frame Buff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375 MHz RAMDA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0.15um CMOS Technology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529 balls BGA pack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Utilized With SiS301 To Support Dual Display 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2nd V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TV (NTSC / P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LCD Monitor (TMDS),Up To </a:t>
            </a:r>
            <a:r>
              <a:rPr b="1" lang="zh-TW" sz="1500" spc="-1" strike="noStrike">
                <a:solidFill>
                  <a:srgbClr val="000066"/>
                </a:solidFill>
                <a:latin typeface="Arial"/>
                <a:ea typeface="新細明體"/>
              </a:rPr>
              <a:t>1280x10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360360"/>
            <a:ext cx="23616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Key Fe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600200"/>
            <a:ext cx="66103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ary CRT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dependent Resolution,Color Depth &amp; Frame R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econdary DDC 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135 MHz 2’nd RAMDAC Up To  1280x1024@85H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CD Monitor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tegrated TMDS Transmi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DVI Compliant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upport 18” LCD  Up To 1280 * 1024 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Hot Plugging Function Defined By VESA P&amp;D 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TSC/PAL TV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Programmable 6 Line Buffers Anti Flickering Fil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Macro Vision Ver. 7.1.L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8160" y="357120"/>
            <a:ext cx="418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iS301 for SiS3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525560" y="6543720"/>
            <a:ext cx="5334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49800" y="5791320"/>
            <a:ext cx="22464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Hz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1860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MARK 2001 V1.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81480" y="1828800"/>
          <a:ext cx="48769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828800"/>
                    <a:ext cx="48769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352680" y="38088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Performance Lea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816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 MARK2000 pro V1.1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828800"/>
          <a:ext cx="5029200" cy="39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5029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40280" y="5791320"/>
            <a:ext cx="2613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GA-60XM7E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80880"/>
            <a:ext cx="877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Gaming Benchma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200" y="5962680"/>
            <a:ext cx="200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990800"/>
          <a:ext cx="518148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90800"/>
                    <a:ext cx="51814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2000" y="1447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Direct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000" y="16765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Unreal Tournament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760" y="14479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57800" y="1905120"/>
          <a:ext cx="5029200" cy="41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05120"/>
                    <a:ext cx="50292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8960" y="175248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MDK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2:24:21Z</dcterms:created>
  <dc:creator>vivian</dc:creator>
  <dc:description/>
  <dc:language>en-US</dc:language>
  <cp:lastModifiedBy>vivian</cp:lastModifiedBy>
  <cp:lastPrinted>2001-03-19T06:51:53Z</cp:lastPrinted>
  <dcterms:modified xsi:type="dcterms:W3CDTF">2001-06-15T03:59:05Z</dcterms:modified>
  <cp:revision>36</cp:revision>
  <dc:subject/>
  <dc:title>無投影片標題</dc:title>
</cp:coreProperties>
</file>