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288588" cy="7239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A220-9E8D-47DE-A6FA-A03F33B0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388656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6398-1C4E-42E6-87C1-8FE1C1B8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92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E8D8-9F2F-4180-8B09-7BB951CC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00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556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00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556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66B8-B022-4C11-93B2-39E35E0C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1693800"/>
            <a:ext cx="92595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0AC6-D73C-4231-BB83-D3430F47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92595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17CA-2E14-48BE-9B72-F50FEAD0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BDBA-F243-48CD-BD41-2552EF85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D488-6D9B-4F25-9CE8-A8FBD02D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288720"/>
            <a:ext cx="9259560" cy="56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A310-6F94-40E2-BA8B-EBAA78D3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E867-2CDE-4AED-9D5D-A5424A1A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92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84C1-151B-448A-B7C8-BAD6282B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BCFA-A6A8-4684-B5AA-8097E31F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7112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514320" y="6595560"/>
            <a:ext cx="325764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7208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fld id="{10BF2830-8D03-44C8-899F-CC73803BB4B6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744280" y="6961320"/>
            <a:ext cx="231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916480" y="6961320"/>
            <a:ext cx="231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S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14300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66480" y="3048120"/>
            <a:ext cx="239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gust 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10800" y="2008080"/>
            <a:ext cx="67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SiS VGA Product Roadm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228600" y="0"/>
            <a:ext cx="10515600" cy="7238880"/>
          </a:xfrm>
          <a:prstGeom prst="rect">
            <a:avLst/>
          </a:prstGeom>
          <a:gradFill rotWithShape="0">
            <a:gsLst>
              <a:gs pos="0">
                <a:srgbClr val="b1fee4"/>
              </a:gs>
              <a:gs pos="50000">
                <a:srgbClr val="66ffcc"/>
              </a:gs>
              <a:gs pos="100000">
                <a:srgbClr val="b1fe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SiS315 Present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TW" sz="2400" spc="-1" strike="noStrike">
                <a:solidFill>
                  <a:srgbClr val="a50021"/>
                </a:solidFill>
                <a:latin typeface="Arial"/>
              </a:rPr>
              <a:t>Lightning Speed, Beyond Fantasy</a:t>
            </a: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43880" y="6858000"/>
            <a:ext cx="23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147200" y="357120"/>
            <a:ext cx="157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5440" y="1828800"/>
            <a:ext cx="46976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SiS315 Positioning /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GPU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eature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Performance Compar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355920" y="365040"/>
            <a:ext cx="360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SiS315 Positio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26920" y="1523880"/>
            <a:ext cx="8003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Mainstream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SiS315 =&gt; 128 bit SDR/ 64-bit SD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Focus on 32M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Best Cost /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Support Cost-Effective Memory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95840" y="289080"/>
            <a:ext cx="439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SiS315 Market Strateg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65360" y="1752480"/>
            <a:ext cx="6188400" cy="23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The Best Choise for Sub-U$90 3D VGA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 Perfect Choise with 3DV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Best 3D Performance you Can G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Richest Multimedia Function You Can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Flexible Display Option You Can Select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	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52480" y="355680"/>
            <a:ext cx="70009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zh-TW" sz="3000" spc="-1" strike="noStrike">
                <a:solidFill>
                  <a:srgbClr val="990000"/>
                </a:solidFill>
                <a:latin typeface="Arial"/>
              </a:rPr>
              <a:t>SiS315  Block Diagra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71720" y="2090880"/>
            <a:ext cx="1628640" cy="4424400"/>
            <a:chOff x="171720" y="2090880"/>
            <a:chExt cx="1628640" cy="4424400"/>
          </a:xfrm>
        </p:grpSpPr>
        <p:sp>
          <p:nvSpPr>
            <p:cNvPr id="54" name=""/>
            <p:cNvSpPr/>
            <p:nvPr/>
          </p:nvSpPr>
          <p:spPr>
            <a:xfrm>
              <a:off x="685800" y="4262400"/>
              <a:ext cx="1114560" cy="241200"/>
            </a:xfrm>
            <a:prstGeom prst="leftRightArrow">
              <a:avLst>
                <a:gd name="adj1" fmla="val 50000"/>
                <a:gd name="adj2" fmla="val 9199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71720" y="2090880"/>
              <a:ext cx="1591920" cy="4424400"/>
              <a:chOff x="171720" y="2090880"/>
              <a:chExt cx="1591920" cy="4424400"/>
            </a:xfrm>
          </p:grpSpPr>
          <p:sp>
            <p:nvSpPr>
              <p:cNvPr id="56" name=""/>
              <p:cNvSpPr/>
              <p:nvPr/>
            </p:nvSpPr>
            <p:spPr>
              <a:xfrm>
                <a:off x="514440" y="2413080"/>
                <a:ext cx="147600" cy="4102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f3f3f3"/>
                  </a:gs>
                  <a:gs pos="100000">
                    <a:srgbClr val="b2b2b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720" y="2090880"/>
                <a:ext cx="100548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GP2X/4X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58600" y="3860640"/>
                <a:ext cx="90504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ddress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5943600" y="1436760"/>
            <a:ext cx="3571920" cy="1387440"/>
            <a:chOff x="5943600" y="1436760"/>
            <a:chExt cx="3571920" cy="1387440"/>
          </a:xfrm>
        </p:grpSpPr>
        <p:grpSp>
          <p:nvGrpSpPr>
            <p:cNvPr id="60" name=""/>
            <p:cNvGrpSpPr/>
            <p:nvPr/>
          </p:nvGrpSpPr>
          <p:grpSpPr>
            <a:xfrm>
              <a:off x="8227080" y="1436760"/>
              <a:ext cx="1288440" cy="1386000"/>
              <a:chOff x="8227080" y="1436760"/>
              <a:chExt cx="1288440" cy="1386000"/>
            </a:xfrm>
          </p:grpSpPr>
          <p:pic>
            <p:nvPicPr>
              <p:cNvPr id="61" name="Monitor_front" descr=""/>
              <p:cNvPicPr/>
              <p:nvPr/>
            </p:nvPicPr>
            <p:blipFill>
              <a:blip r:embed="rId1"/>
              <a:stretch/>
            </p:blipFill>
            <p:spPr>
              <a:xfrm>
                <a:off x="8315280" y="1436760"/>
                <a:ext cx="1200240" cy="104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8227080" y="2494080"/>
                <a:ext cx="128304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zh-TW" sz="1500" spc="-1" strike="noStrike">
                    <a:solidFill>
                      <a:srgbClr val="000000"/>
                    </a:solidFill>
                    <a:latin typeface="Arial"/>
                  </a:rPr>
                  <a:t>1’st Monito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943600" y="2010960"/>
              <a:ext cx="2441520" cy="813240"/>
              <a:chOff x="5943600" y="2010960"/>
              <a:chExt cx="2441520" cy="813240"/>
            </a:xfrm>
          </p:grpSpPr>
          <p:sp>
            <p:nvSpPr>
              <p:cNvPr id="64" name=""/>
              <p:cNvSpPr/>
              <p:nvPr/>
            </p:nvSpPr>
            <p:spPr>
              <a:xfrm>
                <a:off x="5943600" y="2819520"/>
                <a:ext cx="178128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7715160" y="2010960"/>
                <a:ext cx="1800" cy="80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715160" y="2011320"/>
                <a:ext cx="66996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6174720" y="3581280"/>
            <a:ext cx="1261440" cy="1044360"/>
            <a:chOff x="6174720" y="3581280"/>
            <a:chExt cx="1261440" cy="1044360"/>
          </a:xfrm>
        </p:grpSpPr>
        <p:sp>
          <p:nvSpPr>
            <p:cNvPr id="68" name=""/>
            <p:cNvSpPr/>
            <p:nvPr/>
          </p:nvSpPr>
          <p:spPr>
            <a:xfrm>
              <a:off x="6174720" y="4327200"/>
              <a:ext cx="12614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00 Pin TQF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43560" y="3581280"/>
              <a:ext cx="743040" cy="723960"/>
            </a:xfrm>
            <a:prstGeom prst="rect">
              <a:avLst/>
            </a:prstGeom>
            <a:gradFill rotWithShape="0">
              <a:gsLst>
                <a:gs pos="0">
                  <a:srgbClr val="fed5ac"/>
                </a:gs>
                <a:gs pos="50000">
                  <a:srgbClr val="ff9933"/>
                </a:gs>
                <a:gs pos="100000">
                  <a:srgbClr val="fed5a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iS3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238880" y="2971800"/>
            <a:ext cx="2419560" cy="3900600"/>
            <a:chOff x="7238880" y="2971800"/>
            <a:chExt cx="2419560" cy="3900600"/>
          </a:xfrm>
        </p:grpSpPr>
        <p:sp>
          <p:nvSpPr>
            <p:cNvPr id="71" name=""/>
            <p:cNvSpPr/>
            <p:nvPr/>
          </p:nvSpPr>
          <p:spPr>
            <a:xfrm>
              <a:off x="7800840" y="3733920"/>
              <a:ext cx="1800" cy="25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14920" y="5337000"/>
              <a:ext cx="13424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CD Mon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lcd" descr=""/>
            <p:cNvPicPr/>
            <p:nvPr/>
          </p:nvPicPr>
          <p:blipFill>
            <a:blip r:embed="rId2">
              <a:lum contrast="-24000"/>
            </a:blip>
            <a:stretch/>
          </p:blipFill>
          <p:spPr>
            <a:xfrm>
              <a:off x="8372520" y="4343400"/>
              <a:ext cx="128592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 flipV="1">
              <a:off x="7772400" y="4862520"/>
              <a:ext cx="7621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800840" y="5710320"/>
              <a:ext cx="1629000" cy="1162080"/>
              <a:chOff x="7800840" y="5710320"/>
              <a:chExt cx="1629000" cy="1162080"/>
            </a:xfrm>
          </p:grpSpPr>
          <p:pic>
            <p:nvPicPr>
              <p:cNvPr id="7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486640" y="5710320"/>
                <a:ext cx="94320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8744040" y="6543720"/>
                <a:ext cx="44316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TV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800840" y="6246360"/>
                <a:ext cx="59544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9" name="Monitor_front" descr=""/>
            <p:cNvPicPr/>
            <p:nvPr/>
          </p:nvPicPr>
          <p:blipFill>
            <a:blip r:embed="rId4"/>
            <a:stretch/>
          </p:blipFill>
          <p:spPr>
            <a:xfrm>
              <a:off x="8238960" y="2971800"/>
              <a:ext cx="128592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238880" y="373860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151120" y="4049640"/>
              <a:ext cx="13971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zh-TW" sz="1500" spc="-1" strike="noStrike">
                  <a:solidFill>
                    <a:srgbClr val="000000"/>
                  </a:solidFill>
                  <a:latin typeface="Arial"/>
                </a:rPr>
                <a:t>2’nd  Mon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752480" y="1295280"/>
            <a:ext cx="4647960" cy="5564880"/>
            <a:chOff x="1752480" y="1295280"/>
            <a:chExt cx="4647960" cy="5564880"/>
          </a:xfrm>
        </p:grpSpPr>
        <p:sp>
          <p:nvSpPr>
            <p:cNvPr id="83" name=""/>
            <p:cNvSpPr/>
            <p:nvPr/>
          </p:nvSpPr>
          <p:spPr>
            <a:xfrm>
              <a:off x="5762520" y="3855960"/>
              <a:ext cx="519120" cy="161640"/>
            </a:xfrm>
            <a:prstGeom prst="rightArrow">
              <a:avLst>
                <a:gd name="adj1" fmla="val 50000"/>
                <a:gd name="adj2" fmla="val 8029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52480" y="2361960"/>
              <a:ext cx="4029120" cy="41022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657240" y="1981080"/>
              <a:ext cx="160560" cy="7920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38480" y="1828440"/>
              <a:ext cx="2361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zh-TW" sz="1100" spc="-1" strike="noStrike">
                  <a:solidFill>
                    <a:srgbClr val="800000"/>
                  </a:solidFill>
                  <a:latin typeface="Arial"/>
                </a:rPr>
                <a:t>64/128 SD/SGRAM Interfa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zh-TW" sz="1100" spc="-1" strike="noStrike">
                  <a:solidFill>
                    <a:srgbClr val="800000"/>
                  </a:solidFill>
                  <a:latin typeface="Arial"/>
                </a:rPr>
                <a:t>64/128 DDR Interface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14440" y="1295280"/>
              <a:ext cx="83844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67080" y="1447560"/>
              <a:ext cx="83808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33560" y="23619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733560" y="1599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33560" y="15998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7040" y="25905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Transform &amp; Ligh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57040" y="32763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 Gen. 256 Bit 3D Eng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040" y="55623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3D VR insi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57040" y="39621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isibility Eng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57040" y="480024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yper FS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78520" y="6400440"/>
              <a:ext cx="11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</a:rPr>
                <a:t>529 BGA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0" y="99072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57200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152280"/>
            <a:ext cx="5348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57520" y="657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5080" y="933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99864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160200"/>
            <a:ext cx="5348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4392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0400" y="941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6560" y="1371600"/>
            <a:ext cx="6001920" cy="43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256-bit Graphics Architectur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Transform And Lighting 3D Eng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DirectX 7.x/OpenGL IC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SDRAM/SGRAM /DDR DRAM Interfa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166MHz Memory Cloc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Integrated 3D VR Eyeglass Circui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Motion compens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Maximum 128 MB Local Frame Buff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375 MHz RAMDA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0.15um CMOS Technology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529 balls BGA packag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Utilized With SiS301 To Support Dual Display 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2nd V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95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TV (NTSC / P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95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LCD Monitor (TMDS),Up To </a:t>
            </a:r>
            <a:r>
              <a:rPr b="1" lang="zh-TW" sz="1500" spc="-1" strike="noStrike">
                <a:solidFill>
                  <a:srgbClr val="000066"/>
                </a:solidFill>
                <a:latin typeface="Arial"/>
                <a:ea typeface="新細明體"/>
              </a:rPr>
              <a:t>1280x102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00680" y="360360"/>
            <a:ext cx="23616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Key Fea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0" y="99072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57200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152280"/>
            <a:ext cx="5348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57520" y="657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5080" y="933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1600200"/>
            <a:ext cx="661032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econdary CRT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Independent Resolution,Color Depth &amp; Frame R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Secondary DDC interfa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135 MHz 2’nd RAMDAC Up To  1280x1024@85H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CD Monitor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Integrated TMDS Transmit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DVI Compliant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Support 18” LCD  Up To 1280 * 1024 Re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Hot Plugging Function Defined By VESA P&amp;D 1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TSC/PAL TV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Programmable 6 Line Buffers Anti Flickering Fil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Macro Vision Ver. 7.1.L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8160" y="357120"/>
            <a:ext cx="418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SiS301 for SiS31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525560" y="6543720"/>
            <a:ext cx="533412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149800" y="5791320"/>
            <a:ext cx="22464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 u="sng">
                <a:solidFill>
                  <a:srgbClr val="000066"/>
                </a:solidFill>
                <a:uFillTx/>
                <a:latin typeface="Arial"/>
              </a:rPr>
              <a:t>Test Environment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GIGABYTE  (Intel 815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7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Pentium !!! 1GHz MHz,128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7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Windows 98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61280" y="5791320"/>
            <a:ext cx="2935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SiS315 /32M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66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Driver version:v2.01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MX200 /32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75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Driver version: v0650</a:t>
            </a: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(get from offical web-si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18600" y="1219320"/>
            <a:ext cx="2717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3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3DMARK 2001 V1.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(1024 x 768 x 32bpp  @ 85Hz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181480" y="1828800"/>
          <a:ext cx="4876920" cy="39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828800"/>
                    <a:ext cx="487692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352680" y="380880"/>
            <a:ext cx="449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Performance Lead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08160" y="1219320"/>
            <a:ext cx="2717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3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3D MARK2000 pro V1.1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(1024 x 768 x 32bpp  @ 85H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828800"/>
          <a:ext cx="5029200" cy="397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828800"/>
                    <a:ext cx="502920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940280" y="5791320"/>
            <a:ext cx="2613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 u="sng">
                <a:solidFill>
                  <a:srgbClr val="000066"/>
                </a:solidFill>
                <a:uFillTx/>
                <a:latin typeface="Arial"/>
              </a:rPr>
              <a:t>Test Environment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GIGABYTE GA-60XM7E (Intel 815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Pentium !!! 1G MHz,128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Windows 98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80880"/>
            <a:ext cx="877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Gaming Benchmar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0200" y="5962680"/>
            <a:ext cx="2008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28600" y="1990800"/>
          <a:ext cx="518148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90800"/>
                    <a:ext cx="518148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2000" y="144792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Direct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7000" y="167652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Unreal Tournament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(1024X768X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760" y="14479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Open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257800" y="1905120"/>
          <a:ext cx="5029200" cy="41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1905120"/>
                    <a:ext cx="502920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361280" y="5791320"/>
            <a:ext cx="2935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SiS315 /32M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66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Driver version:v2.01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MX200 /32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75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Driver version: v0650</a:t>
            </a: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(get from offical web-si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68960" y="175248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MDK2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(1024X768X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2:24:21Z</dcterms:created>
  <dc:creator>vivian</dc:creator>
  <dc:description/>
  <dc:language>en-US</dc:language>
  <cp:lastModifiedBy>vivian</cp:lastModifiedBy>
  <cp:lastPrinted>2001-03-19T06:51:53Z</cp:lastPrinted>
  <dcterms:modified xsi:type="dcterms:W3CDTF">2001-06-15T03:59:05Z</dcterms:modified>
  <cp:revision>36</cp:revision>
  <dc:subject/>
  <dc:title>無投影片標題</dc:title>
</cp:coreProperties>
</file>