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288588" cy="7239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A1E-ECF2-45CC-B983-51EAC02C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85F-3AE8-45A0-AD3C-495E5785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67B-3DD0-49C4-AFAE-8A4776F3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9380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886560"/>
            <a:ext cx="29811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A51-AF2C-4FBD-A159-95BFD048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9AE-1806-49A4-9FB6-B49953D9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92595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E40-9751-42C6-962A-F0A54F90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353-5529-4600-8211-83DC49F5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C19C-3439-4590-A18E-FBC7EBF2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288720"/>
            <a:ext cx="925956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8EC-240A-4C4A-88DB-76C69F37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04D-5883-4861-B6B5-93D271C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88656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232-9B34-4705-B5F8-4060DBA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288720"/>
            <a:ext cx="92595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93800"/>
            <a:ext cx="45183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886560"/>
            <a:ext cx="925956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05C-0529-492F-9707-9E0FF8D1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t">
            <a:noAutofit/>
          </a:bodyPr>
          <a:lstStyle>
            <a:lvl1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fld id="{D8030E06-15CF-4DCE-BD32-2D5A005B319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442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16480" y="6961320"/>
            <a:ext cx="2311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S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4300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6480" y="30481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ust 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10800" y="2008080"/>
            <a:ext cx="67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SiS VGA Product Road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10515600" cy="7238880"/>
          </a:xfrm>
          <a:prstGeom prst="rect">
            <a:avLst/>
          </a:prstGeom>
          <a:gradFill rotWithShape="0">
            <a:gsLst>
              <a:gs pos="0">
                <a:srgbClr val="b1fee4"/>
              </a:gs>
              <a:gs pos="50000">
                <a:srgbClr val="66ffcc"/>
              </a:gs>
              <a:gs pos="100000">
                <a:srgbClr val="b1fe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SiS315 Present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TW" sz="2400" spc="-1" strike="noStrike">
                <a:solidFill>
                  <a:srgbClr val="a50021"/>
                </a:solidFill>
                <a:latin typeface="Arial"/>
              </a:rPr>
              <a:t>Lightning Speed, Beyond Fantasy</a:t>
            </a: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43880" y="6858000"/>
            <a:ext cx="2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47200" y="357120"/>
            <a:ext cx="157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5440" y="1828800"/>
            <a:ext cx="46976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SiS315 Positioning /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GPU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eatu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Performance Compar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5920" y="36504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Positio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26920" y="1523880"/>
            <a:ext cx="800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Mainstream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iS315 =&gt; 128 bit SDR/ 64-bit SD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Focus on 32M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Best Cost 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a5002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Support Cost-Effective Memory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95840" y="289080"/>
            <a:ext cx="439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SiS315 Market Strate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65360" y="1752480"/>
            <a:ext cx="618840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The Best Choise for Sub-U$90 3D VGA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 Perfect Choise with 3DV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Best 3D Performance you Can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Richest Multimedia Function You Can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8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 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The Flexible Display Option You Can Select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	</a:t>
            </a:r>
            <a:r>
              <a:rPr b="1" lang="zh-TW" sz="18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355680"/>
            <a:ext cx="7000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990000"/>
                </a:solidFill>
                <a:latin typeface="Arial"/>
              </a:rPr>
              <a:t>SiS315  Block Diagra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1720" y="2090880"/>
            <a:ext cx="1628640" cy="4424400"/>
            <a:chOff x="171720" y="2090880"/>
            <a:chExt cx="1628640" cy="4424400"/>
          </a:xfrm>
        </p:grpSpPr>
        <p:sp>
          <p:nvSpPr>
            <p:cNvPr id="54" name=""/>
            <p:cNvSpPr/>
            <p:nvPr/>
          </p:nvSpPr>
          <p:spPr>
            <a:xfrm>
              <a:off x="685800" y="4262400"/>
              <a:ext cx="1114560" cy="241200"/>
            </a:xfrm>
            <a:prstGeom prst="leftRightArrow">
              <a:avLst>
                <a:gd name="adj1" fmla="val 50000"/>
                <a:gd name="adj2" fmla="val 919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1720" y="2090880"/>
              <a:ext cx="1591920" cy="4424400"/>
              <a:chOff x="171720" y="2090880"/>
              <a:chExt cx="1591920" cy="4424400"/>
            </a:xfrm>
          </p:grpSpPr>
          <p:sp>
            <p:nvSpPr>
              <p:cNvPr id="56" name=""/>
              <p:cNvSpPr/>
              <p:nvPr/>
            </p:nvSpPr>
            <p:spPr>
              <a:xfrm>
                <a:off x="514440" y="2413080"/>
                <a:ext cx="147600" cy="41022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f3f3f3"/>
                  </a:gs>
                  <a:gs pos="100000">
                    <a:srgbClr val="b2b2b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720" y="2090880"/>
                <a:ext cx="1005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GP2X/4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8600" y="3860640"/>
                <a:ext cx="905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ddres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5943600" y="1436760"/>
            <a:ext cx="3571920" cy="1387440"/>
            <a:chOff x="5943600" y="1436760"/>
            <a:chExt cx="3571920" cy="1387440"/>
          </a:xfrm>
        </p:grpSpPr>
        <p:grpSp>
          <p:nvGrpSpPr>
            <p:cNvPr id="60" name=""/>
            <p:cNvGrpSpPr/>
            <p:nvPr/>
          </p:nvGrpSpPr>
          <p:grpSpPr>
            <a:xfrm>
              <a:off x="8227080" y="1436760"/>
              <a:ext cx="1288440" cy="1386000"/>
              <a:chOff x="8227080" y="1436760"/>
              <a:chExt cx="1288440" cy="1386000"/>
            </a:xfrm>
          </p:grpSpPr>
          <p:pic>
            <p:nvPicPr>
              <p:cNvPr id="61" name="Monitor_front" descr=""/>
              <p:cNvPicPr/>
              <p:nvPr/>
            </p:nvPicPr>
            <p:blipFill>
              <a:blip r:embed="rId1"/>
              <a:stretch/>
            </p:blipFill>
            <p:spPr>
              <a:xfrm>
                <a:off x="8315280" y="1436760"/>
                <a:ext cx="1200240" cy="104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227080" y="2494080"/>
                <a:ext cx="12830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zh-TW" sz="1500" spc="-1" strike="noStrike">
                    <a:solidFill>
                      <a:srgbClr val="000000"/>
                    </a:solidFill>
                    <a:latin typeface="Arial"/>
                  </a:rPr>
                  <a:t>1’st Monito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943600" y="2010960"/>
              <a:ext cx="2441520" cy="813240"/>
              <a:chOff x="5943600" y="2010960"/>
              <a:chExt cx="2441520" cy="813240"/>
            </a:xfrm>
          </p:grpSpPr>
          <p:sp>
            <p:nvSpPr>
              <p:cNvPr id="64" name=""/>
              <p:cNvSpPr/>
              <p:nvPr/>
            </p:nvSpPr>
            <p:spPr>
              <a:xfrm>
                <a:off x="5943600" y="2819520"/>
                <a:ext cx="178128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715160" y="2010960"/>
                <a:ext cx="1800" cy="80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715160" y="2011320"/>
                <a:ext cx="66996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174720" y="3581280"/>
            <a:ext cx="1261440" cy="1044360"/>
            <a:chOff x="6174720" y="3581280"/>
            <a:chExt cx="1261440" cy="1044360"/>
          </a:xfrm>
        </p:grpSpPr>
        <p:sp>
          <p:nvSpPr>
            <p:cNvPr id="68" name=""/>
            <p:cNvSpPr/>
            <p:nvPr/>
          </p:nvSpPr>
          <p:spPr>
            <a:xfrm>
              <a:off x="6174720" y="4327200"/>
              <a:ext cx="1261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0 Pin TQF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3581280"/>
              <a:ext cx="743040" cy="723960"/>
            </a:xfrm>
            <a:prstGeom prst="rect">
              <a:avLst/>
            </a:prstGeom>
            <a:gradFill rotWithShape="0">
              <a:gsLst>
                <a:gs pos="0">
                  <a:srgbClr val="fed5ac"/>
                </a:gs>
                <a:gs pos="50000">
                  <a:srgbClr val="ff9933"/>
                </a:gs>
                <a:gs pos="100000">
                  <a:srgbClr val="fed5a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S3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238880" y="2971800"/>
            <a:ext cx="2419560" cy="3900600"/>
            <a:chOff x="7238880" y="2971800"/>
            <a:chExt cx="2419560" cy="3900600"/>
          </a:xfrm>
        </p:grpSpPr>
        <p:sp>
          <p:nvSpPr>
            <p:cNvPr id="71" name=""/>
            <p:cNvSpPr/>
            <p:nvPr/>
          </p:nvSpPr>
          <p:spPr>
            <a:xfrm>
              <a:off x="7800840" y="3733920"/>
              <a:ext cx="180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14920" y="5337000"/>
              <a:ext cx="13424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CD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lcd" descr=""/>
            <p:cNvPicPr/>
            <p:nvPr/>
          </p:nvPicPr>
          <p:blipFill>
            <a:blip r:embed="rId2">
              <a:lum contrast="-24000"/>
            </a:blip>
            <a:stretch/>
          </p:blipFill>
          <p:spPr>
            <a:xfrm>
              <a:off x="8372520" y="4343400"/>
              <a:ext cx="12859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7772400" y="4862520"/>
              <a:ext cx="762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800840" y="5710320"/>
              <a:ext cx="1629000" cy="1162080"/>
              <a:chOff x="7800840" y="5710320"/>
              <a:chExt cx="1629000" cy="1162080"/>
            </a:xfrm>
          </p:grpSpPr>
          <p:pic>
            <p:nvPicPr>
              <p:cNvPr id="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486640" y="5710320"/>
                <a:ext cx="943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744040" y="6543720"/>
                <a:ext cx="4431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080" rIns="100080" tIns="50040" bIns="500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1880"/>
                    <a:tab algn="l" pos="2003400"/>
                    <a:tab algn="l" pos="3005280"/>
                    <a:tab algn="l" pos="4006800"/>
                    <a:tab algn="l" pos="5008680"/>
                    <a:tab algn="l" pos="6010200"/>
                    <a:tab algn="l" pos="7012080"/>
                    <a:tab algn="l" pos="8013600"/>
                    <a:tab algn="l" pos="9015480"/>
                    <a:tab algn="l" pos="100170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TV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800840" y="6246360"/>
                <a:ext cx="5954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" name="Monitor_front" descr=""/>
            <p:cNvPicPr/>
            <p:nvPr/>
          </p:nvPicPr>
          <p:blipFill>
            <a:blip r:embed="rId4"/>
            <a:stretch/>
          </p:blipFill>
          <p:spPr>
            <a:xfrm>
              <a:off x="8238960" y="2971800"/>
              <a:ext cx="12859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238880" y="3738600"/>
              <a:ext cx="1200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1120" y="4049640"/>
              <a:ext cx="13971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zh-TW" sz="1500" spc="-1" strike="noStrike">
                  <a:solidFill>
                    <a:srgbClr val="000000"/>
                  </a:solidFill>
                  <a:latin typeface="Arial"/>
                </a:rPr>
                <a:t>2’nd  Monit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52480" y="1295280"/>
            <a:ext cx="4647960" cy="5564880"/>
            <a:chOff x="1752480" y="1295280"/>
            <a:chExt cx="4647960" cy="5564880"/>
          </a:xfrm>
        </p:grpSpPr>
        <p:sp>
          <p:nvSpPr>
            <p:cNvPr id="83" name=""/>
            <p:cNvSpPr/>
            <p:nvPr/>
          </p:nvSpPr>
          <p:spPr>
            <a:xfrm>
              <a:off x="5762520" y="3855960"/>
              <a:ext cx="519120" cy="161640"/>
            </a:xfrm>
            <a:prstGeom prst="rightArrow">
              <a:avLst>
                <a:gd name="adj1" fmla="val 50000"/>
                <a:gd name="adj2" fmla="val 8029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52480" y="2361960"/>
              <a:ext cx="4029120" cy="4102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657240" y="1981080"/>
              <a:ext cx="160560" cy="7920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38480" y="1828440"/>
              <a:ext cx="2361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SD/SGRAM Interfa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zh-TW" sz="1100" spc="-1" strike="noStrike">
                  <a:solidFill>
                    <a:srgbClr val="800000"/>
                  </a:solidFill>
                  <a:latin typeface="Arial"/>
                </a:rPr>
                <a:t>64/128 DDR Interface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4440" y="1295280"/>
              <a:ext cx="83844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67080" y="1447560"/>
              <a:ext cx="83808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33560" y="2361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733560" y="15994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33560" y="1599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040" y="25905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Transform &amp; Ligh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040" y="3276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Gen. 256 Bit 3D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55623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3D VR ins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7040" y="396216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isibility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7040" y="4800240"/>
              <a:ext cx="3429000" cy="457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  <a:effectLst>
              <a:outerShdw dist="107932" dir="27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er FSA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8520" y="6400440"/>
              <a:ext cx="11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Arial"/>
                </a:rPr>
                <a:t>529 BGA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99864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160200"/>
            <a:ext cx="5348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43920" y="658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400" y="941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6560" y="1371600"/>
            <a:ext cx="600192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256-bit Graphics Architectu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Transform And Lighting 3D Eng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DirectX 7.x/OpenGL IC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SDRAM/SGRAM /DDR DRAM 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166MHz Memory Clo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Integrated 3D VR Eyeglass Circui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otion compens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Maximum 128 MB Local Frame Buff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375 MHz RAMDA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0.15um CMOS Technology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529 balls BGA packag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a50021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zh-TW" sz="1700" spc="-1" strike="noStrike">
                <a:solidFill>
                  <a:srgbClr val="003366"/>
                </a:solidFill>
                <a:latin typeface="Arial"/>
              </a:rPr>
              <a:t>Utilized With SiS301 To Support Dual Display 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2nd V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TV (NTSC / P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5000"/>
              </a:lnSpc>
              <a:buClr>
                <a:srgbClr val="a50021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zh-TW" sz="1400" spc="-1" strike="noStrike">
                <a:solidFill>
                  <a:srgbClr val="003366"/>
                </a:solidFill>
                <a:latin typeface="Arial"/>
                <a:ea typeface="新細明體"/>
              </a:rPr>
              <a:t>VGA + LCD Monitor (TMDS),Up To </a:t>
            </a:r>
            <a:r>
              <a:rPr b="1" lang="zh-TW" sz="1500" spc="-1" strike="noStrike">
                <a:solidFill>
                  <a:srgbClr val="000066"/>
                </a:solidFill>
                <a:latin typeface="Arial"/>
                <a:ea typeface="新細明體"/>
              </a:rPr>
              <a:t>1280x10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0680" y="360360"/>
            <a:ext cx="2361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Key Fea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990720"/>
            <a:ext cx="7620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572000"/>
            <a:ext cx="7620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152280"/>
            <a:ext cx="5348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57520" y="657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080" y="9334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600200"/>
            <a:ext cx="66103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CRT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dependent Resolution,Color Depth &amp; Frame R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econdary DDC 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135 MHz 2’nd RAMDAC Up To  1280x1024@85H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CD Monitor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Integrated TMDS Transmit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DVI Compliant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Support 18” LCD  Up To 1280 * 1024 Re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Hot Plugging Function Defined By VESA P&amp;D 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a50021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TSC/PAL TV_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Programmable 6 Line Buffers Anti Flickering Fil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a50021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Arial"/>
                <a:ea typeface="新細明體"/>
              </a:rPr>
              <a:t>Macro Vision Ver. 7.1.L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8160" y="357120"/>
            <a:ext cx="418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he SiS301 for SiS3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525560" y="6543720"/>
            <a:ext cx="53341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9800" y="5791320"/>
            <a:ext cx="22464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Hz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SzPct val="7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1860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MARK 2001 V1.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81480" y="1828800"/>
          <a:ext cx="48769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828800"/>
                    <a:ext cx="48769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352680" y="380880"/>
            <a:ext cx="449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Performance Lea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8160" y="1219320"/>
            <a:ext cx="2717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3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3D MARK2000 pro V1.1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TW" sz="1400" spc="-1" strike="noStrike">
                <a:solidFill>
                  <a:srgbClr val="800000"/>
                </a:solidFill>
                <a:latin typeface="Arial"/>
              </a:rPr>
              <a:t>(1024 x 768 x 32bpp  @ 85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828800"/>
          <a:ext cx="502920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28800"/>
                    <a:ext cx="50292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1fee4"/>
            </a:gs>
            <a:gs pos="50000">
              <a:srgbClr val="66ffcc"/>
            </a:gs>
            <a:gs pos="100000">
              <a:srgbClr val="b1fe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40280" y="5791320"/>
            <a:ext cx="2613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 u="sng">
                <a:solidFill>
                  <a:srgbClr val="000066"/>
                </a:solidFill>
                <a:uFillTx/>
                <a:latin typeface="Arial"/>
              </a:rPr>
              <a:t>Test Environme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GIGABYTE GA-60XM7E (Intel 815)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Pentium !!! 1G MHz,128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SzPct val="95000"/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TW" sz="1100" spc="-1" strike="noStrike">
                <a:solidFill>
                  <a:srgbClr val="000066"/>
                </a:solidFill>
                <a:latin typeface="Arial"/>
              </a:rPr>
              <a:t>Windows 98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880"/>
            <a:ext cx="877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zh-TW" sz="3000" spc="-1" strike="noStrike">
                <a:solidFill>
                  <a:srgbClr val="a50021"/>
                </a:solidFill>
                <a:latin typeface="Arial"/>
              </a:rPr>
              <a:t>Gaming Benchma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0200" y="5962680"/>
            <a:ext cx="2008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1990800"/>
          <a:ext cx="518148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90800"/>
                    <a:ext cx="518148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2000" y="14479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Direct 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000" y="16765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Unreal Tournament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760" y="14479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Arial"/>
              </a:rPr>
              <a:t>Open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57800" y="1905120"/>
          <a:ext cx="5029200" cy="41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1905120"/>
                    <a:ext cx="50292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361280" y="5791320"/>
            <a:ext cx="2935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SiS315 /32M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66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Driver version:v2.01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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66"/>
                </a:solidFill>
                <a:latin typeface="Arial"/>
              </a:rPr>
              <a:t>MX200 /32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66"/>
                </a:solidFill>
                <a:latin typeface="Arial"/>
              </a:rPr>
              <a:t>ECLK/MCLK=175/166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3333cc"/>
                </a:solidFill>
                <a:latin typeface="Arial"/>
              </a:rPr>
              <a:t>Driver version: v0650</a:t>
            </a: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(get from offical web-si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8960" y="175248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DK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(1024X768X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2:24:21Z</dcterms:created>
  <dc:creator>vivian</dc:creator>
  <dc:description/>
  <dc:language>en-US</dc:language>
  <cp:lastModifiedBy>vivian</cp:lastModifiedBy>
  <cp:lastPrinted>2001-03-19T06:51:53Z</cp:lastPrinted>
  <dcterms:modified xsi:type="dcterms:W3CDTF">2001-06-15T03:59:05Z</dcterms:modified>
  <cp:revision>36</cp:revision>
  <dc:subject/>
  <dc:title>無投影片標題</dc:title>
</cp:coreProperties>
</file>